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entury Gothic"/>
              </a:rPr>
              <a:t>Click to move the slide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5E1E1DB-CE06-4BDF-A09E-C7F5073DBD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89E58DA-7C53-4D45-8501-B13CDDCB63D0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98040" y="4692240"/>
            <a:ext cx="5365800" cy="4489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29A76B6-A93D-4F58-BEFE-175488E8127D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281453F-6659-49F4-BE8D-CF5C945A6B80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9B0334E-397B-4F1D-BC10-69905D089666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AC87673-0849-4E6A-820C-CF45E740499B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5FFE1EA-4FCF-4FFF-8624-B4D9925787B0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8181F2B-1782-4C8D-857A-7C7D87B82474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98040" y="4692240"/>
            <a:ext cx="5365800" cy="44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c7b8c0"/>
              </a:solidFill>
              <a:latin typeface="Century Gothic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7D580CC-DDCF-49AA-A23B-8CC1D1CEB5B9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5112000" cy="4962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7b8c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29DCAA3-6793-4C0F-AE35-C9D902B06485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5112000" cy="4962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7b8c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9A5E766-F1EA-42CE-BED6-53D90BFDF23E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DF9CB91-F388-4934-B13D-1D8B9B812C70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B9905DE-9898-4EB7-BA4B-024757D35972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CE12FF7-FA2A-4693-81C0-16150A09945C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F14EC87-C8EF-42D8-A9CE-9C524EAACAE0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1763154-D0BB-48E8-9052-3BF0FA00BCDE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6841-E855-4006-B275-12A8D398E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7391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3880" y="4057200"/>
            <a:ext cx="7391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A8F7-6310-48E2-BC9D-9F9F7311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1144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3880" y="405720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11440" y="405720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B0E7-A4CC-4F40-B1B8-77760B7B8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23360" y="182844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2480" y="182844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3880" y="405720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023360" y="405720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2480" y="405720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0A21-C4E6-44FE-A112-02465FE18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9F5D-BB10-47E2-B481-6AD35489F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82844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C17C-3DF1-4BAB-869B-F9144833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86FC-AB07-46C4-8AD5-7D7F702E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3606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11440" y="1828440"/>
            <a:ext cx="3606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DE9D-7D73-4CA1-8CBA-565A436E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C49B-D8E5-46E3-BC5C-019B7AEC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762120"/>
            <a:ext cx="7391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B163-BA8A-4FAF-815B-BDAD6790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1440" y="1828440"/>
            <a:ext cx="3606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720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A1FE-B45F-425D-AC6E-EF7277AC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3880" y="182844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7C83-11B2-48B5-9205-001DB8C7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3606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144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11440" y="405720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054E-1781-4D1E-A4EA-91D9CD4F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1144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7200"/>
            <a:ext cx="7391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8BFD-7879-4C5E-992D-A13F3D5C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7391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7200"/>
            <a:ext cx="7391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77C0-EB41-47BE-812E-34C5D7D6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1144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720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11440" y="405720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F49C-663F-4BDA-9AD7-D33089CBB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3360" y="182844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522480" y="182844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720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3360" y="405720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522480" y="405720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E73A-0994-4058-B87E-48B54FDD7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503E-3205-487D-B490-1C5B132C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3606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11440" y="1828440"/>
            <a:ext cx="3606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8B7B-0B7D-4E2C-9962-7A556B69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EF8F-22C9-475E-9E01-D226E4AA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3880" y="762120"/>
            <a:ext cx="7391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C2DE-7A43-43E6-92F4-AEE17348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11440" y="1828440"/>
            <a:ext cx="3606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3880" y="405720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512F-131D-45F4-8CD5-CFBF753F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3606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1144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11440" y="405720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B0D8-0FA4-4449-A09B-9C6B6502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1144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3880" y="4057200"/>
            <a:ext cx="7391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BA00-74A3-4CE9-ADEC-B1D75333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backfade_template"/>
          <p:cNvPicPr/>
          <p:nvPr/>
        </p:nvPicPr>
        <p:blipFill>
          <a:blip r:embed="rId2"/>
          <a:srcRect l="0" t="0" r="0" b="1995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Line 11"/>
          <p:cNvSpPr/>
          <p:nvPr/>
        </p:nvSpPr>
        <p:spPr>
          <a:xfrm flipH="1">
            <a:off x="0" y="1676520"/>
            <a:ext cx="914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523880" y="182844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59056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FD8E-ED1B-4627-878B-40CECC32E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0" y="1676520"/>
            <a:ext cx="914724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4" name="Arc 3"/>
          <p:cNvSpPr/>
          <p:nvPr/>
        </p:nvSpPr>
        <p:spPr>
          <a:xfrm>
            <a:off x="0" y="843120"/>
            <a:ext cx="205740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82844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B72E-9A9A-4569-835C-0C2491E95CB6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4114800" y="2362320"/>
            <a:ext cx="48769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Century Gothic"/>
              </a:rPr>
              <a:t>Ian Tutt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entury Gothic"/>
              </a:rPr>
              <a:t>General Lighthouse Authorities R&amp;RNAV Directorate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entury Gothic"/>
              </a:rPr>
              <a:t>Harwich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entury Gothic"/>
              </a:rPr>
              <a:t>Essex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entury Gothic"/>
              </a:rPr>
              <a:t>UK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pic>
        <p:nvPicPr>
          <p:cNvPr id="96" name="Picture 10" descr=""/>
          <p:cNvPicPr/>
          <p:nvPr/>
        </p:nvPicPr>
        <p:blipFill>
          <a:blip r:embed="rId1"/>
          <a:stretch/>
        </p:blipFill>
        <p:spPr>
          <a:xfrm>
            <a:off x="1371600" y="2028960"/>
            <a:ext cx="2328840" cy="36860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Perception of Flashing Lights</a:t>
            </a:r>
            <a:endParaRPr b="1" lang="en-US" sz="4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6732720" y="2028960"/>
            <a:ext cx="22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entury Gothic"/>
              </a:rPr>
              <a:t>EEP16/INF/4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4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38" name="Footer Placeholder 5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241200" y="2120760"/>
            <a:ext cx="525780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Apparent Intensity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763272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As the definition of effective intensity only provides for flashing lights at threshold (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i="1" lang="en-GB" sz="2400" spc="-1" strike="noStrike" baseline="-6000">
                <a:solidFill>
                  <a:srgbClr val="000099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), we need another term to explain the perception of flashing lights above threshold at different illuminance levels (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i="1" lang="en-GB" sz="2400" spc="-1" strike="noStrike" baseline="-6000">
                <a:solidFill>
                  <a:srgbClr val="000099"/>
                </a:solidFill>
                <a:latin typeface="Arial"/>
              </a:rPr>
              <a:t>c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It is proposed that the deprecated term “apparent intensity” (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) is revived and used for this purpose.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Because the perception of a flash changes with the level of illuminance, it is proposed that a level of illuminance in microlux is stated with the apparent intensity (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Arial"/>
              </a:rPr>
              <a:t>a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, E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  <p:transition>
    <p:cut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4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43" name="Footer Placeholder 5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241200" y="2120760"/>
            <a:ext cx="525780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000" y="90792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Variable </a:t>
            </a:r>
            <a:r>
              <a:rPr b="1" i="1" lang="en-GB" sz="44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 Approach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6920" y="1828800"/>
            <a:ext cx="7632720" cy="19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t has been suggested that apparent intensity can be modelled by varying the value of the Blondel-Rey visual time-constant </a:t>
            </a:r>
            <a:r>
              <a:rPr b="0" i="1" lang="en-GB" sz="20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and linking it to the value of illuminance.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 1933, Hampton suggested using a formula for such a purpose: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9"/>
              <p:cNvSpPr txBox="1"/>
              <p:nvPr/>
            </p:nvSpPr>
            <p:spPr>
              <a:xfrm>
                <a:off x="1908000" y="3884760"/>
                <a:ext cx="361980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Rectangle 11"/>
          <p:cNvSpPr/>
          <p:nvPr/>
        </p:nvSpPr>
        <p:spPr>
          <a:xfrm>
            <a:off x="826920" y="4581360"/>
            <a:ext cx="7632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This formula can be used to calculate a value for 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in the Blondel-Rey equation for different illuminance levels.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  <p:transition>
    <p:cut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4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50" name="Footer Placeholder 5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241200" y="2120760"/>
            <a:ext cx="525780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000" y="90792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Variable </a:t>
            </a:r>
            <a:r>
              <a:rPr b="1" i="1" lang="en-GB" sz="44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 Approach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pic>
        <p:nvPicPr>
          <p:cNvPr id="153" name="Picture 14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883560" cy="43354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241200" y="2120760"/>
            <a:ext cx="525780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What’s the Difference?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71640" y="1773360"/>
          <a:ext cx="7391160" cy="4267080"/>
        </p:xfrm>
        <a:graphic>
          <a:graphicData uri="http://schemas.openxmlformats.org/drawingml/2006/table">
            <a:tbl>
              <a:tblPr/>
              <a:tblGrid>
                <a:gridCol w="1631880"/>
                <a:gridCol w="1905120"/>
                <a:gridCol w="1904760"/>
                <a:gridCol w="1949400"/>
              </a:tblGrid>
              <a:tr h="132084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Flash Duration 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s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ffectiv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  <a:p>
                      <a:pPr marL="343080" indent="-343080"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Intensity </a:t>
                      </a:r>
                      <a:r>
                        <a:rPr b="0" i="1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I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Apparent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  <a:p>
                      <a:pPr marL="343080" indent="-343080"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Intensity </a:t>
                      </a:r>
                      <a:r>
                        <a:rPr b="0" i="1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Ia</a:t>
                      </a: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  <a:p>
                      <a:pPr marL="343080" indent="-343080"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at 0.2 </a:t>
                      </a:r>
                      <a:r>
                        <a:rPr b="0" lang="el-GR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μ</a:t>
                      </a: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ux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% Increas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85%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66%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.1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51%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1%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6%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2%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9%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ut thruBlk="true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4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60" name="Footer Placeholder 5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241200" y="2120760"/>
            <a:ext cx="525780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Way Forward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353440" cy="34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99"/>
                </a:solidFill>
                <a:latin typeface="Arial"/>
              </a:rPr>
              <a:t>Repeat T-S &amp; G’s experiment (rectangular flashes)</a:t>
            </a:r>
            <a:endParaRPr b="0" lang="en-US" sz="25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99"/>
                </a:solidFill>
                <a:latin typeface="Arial"/>
              </a:rPr>
              <a:t>Test for non-rectangular flashes</a:t>
            </a:r>
            <a:endParaRPr b="0" lang="en-US" sz="25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99"/>
                </a:solidFill>
                <a:latin typeface="Arial"/>
              </a:rPr>
              <a:t>Test with background luminance</a:t>
            </a:r>
            <a:endParaRPr b="0" lang="en-US" sz="25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99"/>
                </a:solidFill>
                <a:latin typeface="Arial"/>
              </a:rPr>
              <a:t>Test for different colours</a:t>
            </a:r>
            <a:endParaRPr b="0" lang="en-US" sz="25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99"/>
                </a:solidFill>
                <a:latin typeface="Arial"/>
              </a:rPr>
              <a:t>Test for different colours of light against different background colours</a:t>
            </a:r>
            <a:endParaRPr b="0" lang="en-US" sz="25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99"/>
                </a:solidFill>
                <a:latin typeface="Arial"/>
              </a:rPr>
              <a:t>Find most appropriate model at each stage</a:t>
            </a:r>
            <a:endParaRPr b="0" lang="en-US" sz="25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  <p:transition>
    <p:cut thruBlk="true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Thank You</a:t>
            </a:r>
            <a:r>
              <a:rPr b="1" lang="en-GB" sz="4400" spc="-1" strike="noStrike">
                <a:solidFill>
                  <a:srgbClr val="000099"/>
                </a:solidFill>
                <a:latin typeface="Century Gothic"/>
              </a:rPr>
              <a:t>	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4267080" y="508464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entury Gothic"/>
              </a:rPr>
              <a:t>ian.tutt@gla-rrnav.org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4267080" y="2133720"/>
            <a:ext cx="48769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Century Gothic"/>
              </a:rPr>
              <a:t>Ian Tutt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entury Gothic"/>
              </a:rPr>
              <a:t>General Lighthouse Authorities R&amp;RNAV Directorate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entury Gothic"/>
              </a:rPr>
              <a:t>Harwich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entury Gothic"/>
              </a:rPr>
              <a:t>Essex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entury Gothic"/>
              </a:rPr>
              <a:t>UK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pic>
        <p:nvPicPr>
          <p:cNvPr id="169" name="Picture 8" descr="Crammag Head"/>
          <p:cNvPicPr/>
          <p:nvPr/>
        </p:nvPicPr>
        <p:blipFill>
          <a:blip r:embed="rId1"/>
          <a:srcRect l="0" t="0" r="0" b="26577"/>
          <a:stretch/>
        </p:blipFill>
        <p:spPr>
          <a:xfrm>
            <a:off x="900000" y="2349360"/>
            <a:ext cx="3027600" cy="29610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4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00" name="Footer Placeholder 5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4248000" cy="28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99"/>
                </a:solidFill>
                <a:latin typeface="Arial"/>
              </a:rPr>
              <a:t>Luminous Range</a:t>
            </a:r>
            <a:endParaRPr b="0" lang="en-US" sz="21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99"/>
                </a:solidFill>
                <a:latin typeface="Arial"/>
              </a:rPr>
              <a:t>Observer Illuminance</a:t>
            </a:r>
            <a:endParaRPr b="0" lang="en-US" sz="21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99"/>
                </a:solidFill>
                <a:latin typeface="Arial"/>
              </a:rPr>
              <a:t>Effective Intensity</a:t>
            </a:r>
            <a:endParaRPr b="0" lang="en-US" sz="21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99"/>
                </a:solidFill>
                <a:latin typeface="Arial"/>
              </a:rPr>
              <a:t>Apparent Intensity</a:t>
            </a:r>
            <a:endParaRPr b="0" lang="en-US" sz="21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99"/>
                </a:solidFill>
                <a:latin typeface="Arial"/>
              </a:rPr>
              <a:t>What’s the difference?</a:t>
            </a:r>
            <a:endParaRPr b="0" lang="en-US" sz="21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99"/>
                </a:solidFill>
                <a:latin typeface="Arial"/>
              </a:rPr>
              <a:t>Way Forward</a:t>
            </a:r>
            <a:endParaRPr b="0" lang="en-US" sz="2100" spc="-1" strike="noStrike">
              <a:solidFill>
                <a:srgbClr val="000066"/>
              </a:solidFill>
              <a:latin typeface="Century Gothic"/>
            </a:endParaRPr>
          </a:p>
        </p:txBody>
      </p:sp>
      <p:pic>
        <p:nvPicPr>
          <p:cNvPr id="103" name="Picture 10" descr=""/>
          <p:cNvPicPr/>
          <p:nvPr/>
        </p:nvPicPr>
        <p:blipFill>
          <a:blip r:embed="rId1"/>
          <a:stretch/>
        </p:blipFill>
        <p:spPr>
          <a:xfrm>
            <a:off x="5364000" y="1916280"/>
            <a:ext cx="2646360" cy="35272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4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05" name="Footer Placeholder 5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640" y="83664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Luminous Range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792144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Luminous Range is a calculated figure based on: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Light Intensity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Illuminance at the observer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Atmospheric transmissivity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From Allard: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where:   </a:t>
            </a:r>
            <a:r>
              <a:rPr b="0" i="1" lang="en-GB" sz="20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= illuminance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= transmissivity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i="1" lang="en-GB" sz="20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= intensity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99"/>
                </a:solidFill>
                <a:latin typeface="Arial"/>
              </a:rPr>
              <a:t>d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= distance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d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is range when 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E(d)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is at the threshold of perception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5"/>
              <p:cNvSpPr txBox="1"/>
              <p:nvPr/>
            </p:nvSpPr>
            <p:spPr>
              <a:xfrm>
                <a:off x="1476360" y="4203720"/>
                <a:ext cx="216072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f>
                      <m:num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cut thruBlk="true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4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10" name="Footer Placeholder 5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Threshold Illuminance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0920" y="2031480"/>
            <a:ext cx="82818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99"/>
                </a:solidFill>
                <a:latin typeface="Arial"/>
              </a:rPr>
              <a:t>From the International Lighting Vocabulary:</a:t>
            </a:r>
            <a:endParaRPr b="0" lang="en-US" sz="2500" spc="-1" strike="noStrike">
              <a:solidFill>
                <a:srgbClr val="000066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i="1" lang="en-GB" sz="2500" spc="-1" strike="noStrike">
                <a:solidFill>
                  <a:srgbClr val="000066"/>
                </a:solidFill>
                <a:latin typeface="Arial"/>
              </a:rPr>
              <a:t>Threshold of illuminance: smallest illuminance produced at the eye of an observer by a light source seen in point vision, which renders the source perceptible.</a:t>
            </a:r>
            <a:endParaRPr b="0" lang="en-US" sz="2500" spc="-1" strike="noStrike">
              <a:solidFill>
                <a:srgbClr val="000066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000066"/>
                </a:solidFill>
                <a:latin typeface="Arial"/>
              </a:rPr>
              <a:t>Note: For visual signalling, the light source must be rendered recognisable, and hence a higher threshold of illuminance is to be expected.”</a:t>
            </a:r>
            <a:endParaRPr b="0" lang="en-US" sz="25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  <p:transition>
    <p:cut thruBlk="true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4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14" name="Footer Placeholder 5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Observer Illuminance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0920" y="2031840"/>
            <a:ext cx="8281800" cy="37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In 1933 an international lighthouse conference in Paris recommended that the minimum illuminance at the observer required to safely recognise an aid to navigation signal light was 0.67 sea-mile candelas (0.2 microlux)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Since then, all luminous range calculations for maritime AtoN use have been based on that illuminance figure.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Therefore d is the luminous range when 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E(d)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in the Allard equation is 0.2 microlux.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  <p:transition>
    <p:cut thruBlk="true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4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18" name="Footer Placeholder 5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Effective Intensity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281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ffective intensity is defined as the luminous intensity of a steady light source that would have the same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uminous rang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as the flashing light in question</a:t>
            </a:r>
            <a:r>
              <a:rPr b="0" lang="en-US" sz="2400" spc="-1" strike="noStrike">
                <a:solidFill>
                  <a:srgbClr val="000066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Luminous range for marine AtoN signal lights is based on an observer illuminance of 0.2 microlux.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However, most experiments that investigated effective intensity were based on an observer’s detection of a light at achromatic threshold of illuminance - where the observer could just detect the light (approx 0.05microlux).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  <p:transition>
    <p:cut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4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22" name="Footer Placeholder 5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Effective Intensity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000" y="1828440"/>
            <a:ext cx="8135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For a rectangular flash, the Blondel-Rey equation for effective intensity is valid: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lvl="2" marL="1131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where: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000099"/>
                </a:solidFill>
                <a:latin typeface="Arial"/>
              </a:rPr>
              <a:t>Ie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= effective intensity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lvl="2" marL="1131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000099"/>
                </a:solidFill>
                <a:latin typeface="Arial"/>
              </a:rPr>
              <a:t>Io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= peak intensity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lvl="2" marL="1131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= flash duration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lvl="2" marL="1131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= the visual time-constant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lvl="2" marL="1131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he value of </a:t>
            </a:r>
            <a:r>
              <a:rPr b="0" i="1" lang="en-GB" sz="20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is typically 0.2 for nighttime use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This equation holds true for flashing lights at the achromatic threshold of perception (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i="1" lang="en-GB" sz="2400" spc="-1" strike="noStrike" baseline="-6000">
                <a:solidFill>
                  <a:srgbClr val="000099"/>
                </a:solidFill>
                <a:latin typeface="Arial"/>
              </a:rPr>
              <a:t>t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1187280" y="2708280"/>
                <a:ext cx="136872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cut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4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27" name="Footer Placeholder 5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241200" y="2120760"/>
            <a:ext cx="525780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Toulmin-Smith and Green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2087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99"/>
                </a:solidFill>
                <a:latin typeface="Arial"/>
              </a:rPr>
              <a:t>At the 1933 conference in Paris, one of the papers presented was an experiment by Toulmin-Smith and Green of UK.</a:t>
            </a:r>
            <a:endParaRPr b="0" lang="en-US" sz="25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99"/>
                </a:solidFill>
                <a:latin typeface="Arial"/>
              </a:rPr>
              <a:t>Their experiment investigated the perception of flashing lights at illuminances above threshold (supra-threshold) – the flash profiles were rectangular.</a:t>
            </a:r>
            <a:endParaRPr b="0" lang="en-US" sz="25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99"/>
                </a:solidFill>
                <a:latin typeface="Arial"/>
              </a:rPr>
              <a:t>They used ‘brightness matching’ to plot curves of visual perception at 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i="1" lang="en-GB" sz="2400" spc="-1" strike="noStrike" baseline="-6000">
                <a:solidFill>
                  <a:srgbClr val="000099"/>
                </a:solidFill>
                <a:latin typeface="Arial"/>
              </a:rPr>
              <a:t>t 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(threshold)</a:t>
            </a:r>
            <a:r>
              <a:rPr b="0" lang="en-GB" sz="2400" spc="-1" strike="noStrike" baseline="-6000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and several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illuminance values of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 E</a:t>
            </a:r>
            <a:r>
              <a:rPr b="0" i="1" lang="en-GB" sz="2400" spc="-1" strike="noStrike" baseline="-6000">
                <a:solidFill>
                  <a:srgbClr val="000099"/>
                </a:solidFill>
                <a:latin typeface="Arial"/>
              </a:rPr>
              <a:t>c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(supra-threshold).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  <p:transition>
    <p:cut thruBlk="true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4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32" name="Footer Placeholder 5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pic>
        <p:nvPicPr>
          <p:cNvPr id="133" name="Picture 7" descr="T-S&amp;G_fig5 t negative from Air Ministry Paper"/>
          <p:cNvPicPr/>
          <p:nvPr/>
        </p:nvPicPr>
        <p:blipFill>
          <a:blip r:embed="rId1"/>
          <a:stretch/>
        </p:blipFill>
        <p:spPr>
          <a:xfrm>
            <a:off x="684360" y="1700280"/>
            <a:ext cx="4967280" cy="44989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"/>
          <p:cNvSpPr/>
          <p:nvPr/>
        </p:nvSpPr>
        <p:spPr>
          <a:xfrm>
            <a:off x="241200" y="2120760"/>
            <a:ext cx="525780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Toulmin-Smith and Green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722560" y="2852280"/>
            <a:ext cx="342108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Extract from Toulmin-Smith and Green’s paper of 1933.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  <p:transition>
    <p:cut thruBlk="true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6T15:28:25Z</dcterms:created>
  <dc:creator>Ian Tutt</dc:creator>
  <dc:description/>
  <dc:language>en-US</dc:language>
  <cp:lastModifiedBy>Mike Hadley</cp:lastModifiedBy>
  <dcterms:modified xsi:type="dcterms:W3CDTF">2011-02-14T10:37:16Z</dcterms:modified>
  <cp:revision>193</cp:revision>
  <dc:subject/>
  <dc:title>Lights Strategy Workshop</dc:title>
</cp:coreProperties>
</file>